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769-C2FE-400D-B750-CFB27F51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DD2-8CA6-4802-B33E-2DFB04B0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541-AD0D-46C1-AE61-9BF375A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A0C-8808-4E67-9327-4AF14BFF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3C5-D1D7-4226-996E-DF1B475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3C4-2022-411D-9872-F7008C80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CBE-53BE-48A3-860A-A3F3B5D6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BE6-3CB4-4C00-BFC8-7FBB2D7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839-FC1D-4101-B6AD-A773F3C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B3A-F5FB-49BA-9311-35D8683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5DC-524F-46AC-B2AF-537E987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76C-F73A-453C-BE59-DCA5FD7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250C-9FA6-4FFF-8C02-B8A32794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8 Aká to krá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lásk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á pripravi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bytky slávy pre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žiadna mys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sk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ysn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 b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ni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nevládne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trach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kráčaj na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ožej sile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istote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ždy na svoj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yplní náš Pán sľuby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okonale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áskavý Pria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rný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 skončenom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bavený útra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jsť do slávy b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pustiť hriešnu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áš Pán sp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né šíky verných z všetkých strán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dôjdeme raz z 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ci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trieme z č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t a cesty pr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zdravíme svojho Spas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slavnou p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y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keď nebies Vlád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ostaví si po pravici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vie: Poď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ome môjho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vstvo slávy 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va v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ie oči svitom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iť bud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pre svet v žiali slzy ron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zrieme stopy tých 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nás súd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trestu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mrti zbav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31:13Z</dcterms:modified>
  <cp:revision>22</cp:revision>
  <dc:subject/>
  <dc:title>Je veľký náš Pán, on slávy je Kráľ Nech do všetkých strán  spev vrúcnych znie chvál.</dc:title>
</cp:coreProperties>
</file>